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017-5E68-48EC-81E4-4156FE55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C0F-D041-4F3B-A916-78956C9E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BAE-AF8E-4911-94B8-52BB1F7E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286-BB55-4404-A0AB-2BDDCB19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8B97A-6F74-4921-B0D7-4783D862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D8C9B-FC65-4DBF-B89D-A3A80A90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5A8C0-6BF6-4CB5-B3F1-E3318DF4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FAAB7-8746-47CE-8034-1B569C41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874DC-A849-4509-907A-001E288E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17AE4-232C-4474-BFEF-FE274850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46BEF-B3B5-40C3-BD37-CF285571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1E3-3816-4F9B-8460-7D69825E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8F609-020A-4602-8948-85906560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0FFB5-31A5-476B-950E-093C2AEE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E8F89-55C1-4A78-84C8-C1DB8A24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79AE7-E3F6-4F80-A7B4-D3AEDAE4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B942F-FDC3-4271-A985-7379A44B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689E-76EA-4CFB-8D58-93EA6A2E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E36-290B-45A4-B829-B65D74D3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1E3-3948-4448-A562-5F5450BD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1F4-1367-4B85-B1EA-647570B4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45A-4EFA-44D2-A14C-DF8B31A7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36E-8B5F-486E-902A-32F1FC04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F00-65D6-4957-BB3A-94434A7F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B19C-ACB0-4E18-BB3B-9489F3D151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2C83-D999-4771-ACE2-326F3126DC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lossian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arter 12 Lesson 1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 True Christian Should B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inue earnestly in pr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lk in wis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your speech be full of gr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Greeting And Clos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gives a quick rundown on his companions who have helped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also gives instructions on where the letter is to be r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 my chain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lory of Chr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ist is all you n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let anyone spoil your gi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 true Christian should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 Greeting and Clo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ee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- an apos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othy is with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ten to the faithful brethren in Colos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pray for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heard of your faith in Je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ee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have a hope laid for you in hea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phras has told us of your love in the Spir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lory Of Chri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as all knowled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as all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as all wis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as all spiritual under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rist Is All You Ne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ist has saved you from de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him you were reconci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ere alienated and he brought you into the f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joice in your suff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 can work in you might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 Not Let Anyone Spoil Your Gif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ware of philosophy and empty deci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let anyone distract you with meaningless trad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ware of false hum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t to rest your past habits of 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 True Christian Should B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 these traits: tender mercy,kindness,humility,meekness,longsuff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of all- L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peace of God dwell in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Word of God dwell in you al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everything in the name of the L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 True Christian Should B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ves should submit to husb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sbands love your w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ldren obey your par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ants obey your ma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ters be good to serv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2:01:30Z</dcterms:created>
  <dc:creator>Jarrod S. Vines</dc:creator>
  <dc:description/>
  <dc:language>en-US</dc:language>
  <cp:lastModifiedBy>Tab</cp:lastModifiedBy>
  <dcterms:modified xsi:type="dcterms:W3CDTF">2007-03-07T23:23:39Z</dcterms:modified>
  <cp:revision>3</cp:revision>
  <dc:subject/>
  <dc:title>Colossians Quarter 12 Lesson 17</dc:title>
</cp:coreProperties>
</file>